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166F-D629-4C31-B2DC-8BF108E603C9}" type="slidenum">
              <a:rPr b="0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5B1A-161C-4110-A757-ABC3B96AD1EA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5A29-267F-423E-A09F-9A9CB7FB090E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32D3-7E7F-404C-9554-9C126D20557E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2309-09A0-4EF1-89F3-44F4DBD7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D158-0288-4CAD-BBC9-D1B5342B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DFDF-096D-4AB5-ABE3-61FB0E8A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D961-5905-42EE-A2BB-BF325439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2513-F384-4384-88C8-EBE6CC59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32D3-53F9-411B-BEF8-0B12FC6A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8F07-0F64-4E3F-9F87-9D4201FB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BCE2-8DFE-4C1B-A937-A9E702D8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C49B-673A-49AB-96CB-5401779C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12A3-72ED-4D79-9832-6B82E1BE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6ACD-BBB7-4E1A-8BAC-3BE3D871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7EB-B1B0-4E75-BCE7-3918C16C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CCC0-C452-4409-BF25-D105EC399355}" type="slidenum">
              <a:rPr b="0" lang="es-ES_trad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Arial"/>
                <a:ea typeface="Osak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  <a:ea typeface="Osaka"/>
              </a:rPr>
              <a:t>Los eco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Arial"/>
                <a:ea typeface="Osaka"/>
              </a:rPr>
              <a:t>Ciencias de la Naturaleza 2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Logo anaya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1547640" y="2637000"/>
            <a:ext cx="57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200"/>
                </a:solidFill>
                <a:latin typeface="Arial"/>
                <a:ea typeface="Osaka"/>
              </a:rPr>
              <a:t>UNA ASOCIACIÓN ESTATAL: LAS TERMI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3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Arial"/>
                <a:ea typeface="Osak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Arial"/>
                <a:ea typeface="Osaka"/>
              </a:rPr>
              <a:t>Ciencias de la Naturaleza 2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Logo anaya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  <a:ea typeface="Osaka"/>
              </a:rPr>
              <a:t>Una asociación estatal: las termi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9 CuadroTexto"/>
          <p:cNvSpPr/>
          <p:nvPr/>
        </p:nvSpPr>
        <p:spPr>
          <a:xfrm>
            <a:off x="971640" y="7650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200"/>
                </a:solidFill>
                <a:latin typeface="Arial"/>
              </a:rPr>
              <a:t>LAS COLONIAS DE TERM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2 Rectángulo"/>
          <p:cNvSpPr/>
          <p:nvPr/>
        </p:nvSpPr>
        <p:spPr>
          <a:xfrm>
            <a:off x="684360" y="1268280"/>
            <a:ext cx="440208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s termitas son insectos que se alimentan de madera y viven en colonias o nidos llamados termite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bitan sobre todo en los bosques tropicales y las sabanas de América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l Sur, África y Austra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s termitas se caracterizan por ser </a:t>
            </a:r>
            <a:r>
              <a:rPr b="1" lang="es-ES_tradnl" sz="1800" spc="-1" strike="noStrike">
                <a:solidFill>
                  <a:srgbClr val="008200"/>
                </a:solidFill>
                <a:latin typeface="Arial"/>
              </a:rPr>
              <a:t>insectos sociale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 vivir en una asociación esta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las colonias se divide el trabajo entre distintos grupos o </a:t>
            </a:r>
            <a:r>
              <a:rPr b="1" lang="es-ES_tradnl" sz="1800" spc="-1" strike="noStrike">
                <a:solidFill>
                  <a:srgbClr val="008200"/>
                </a:solidFill>
                <a:latin typeface="Arial"/>
              </a:rPr>
              <a:t>cast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e termitas para mantener la colonia en funcion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s principales castas de los termiteros son: la pareja real, los soldados y las obr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14 Grupo"/>
          <p:cNvGrpSpPr/>
          <p:nvPr/>
        </p:nvGrpSpPr>
        <p:grpSpPr>
          <a:xfrm>
            <a:off x="5364000" y="1341360"/>
            <a:ext cx="3167280" cy="2459520"/>
            <a:chOff x="5364000" y="1341360"/>
            <a:chExt cx="3167280" cy="2459520"/>
          </a:xfrm>
        </p:grpSpPr>
        <p:pic>
          <p:nvPicPr>
            <p:cNvPr id="62" name="Picture 10" descr="C:\Users\Beatriz\Documents\ANAYA\Termitas\9_termita.jpg"/>
            <p:cNvPicPr/>
            <p:nvPr/>
          </p:nvPicPr>
          <p:blipFill>
            <a:blip r:embed="rId2"/>
            <a:stretch/>
          </p:blipFill>
          <p:spPr>
            <a:xfrm>
              <a:off x="5364000" y="1341360"/>
              <a:ext cx="316728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10 CuadroTexto"/>
            <p:cNvSpPr/>
            <p:nvPr/>
          </p:nvSpPr>
          <p:spPr>
            <a:xfrm>
              <a:off x="5724000" y="3463560"/>
              <a:ext cx="252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Termit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13 Grupo"/>
          <p:cNvGrpSpPr/>
          <p:nvPr/>
        </p:nvGrpSpPr>
        <p:grpSpPr>
          <a:xfrm>
            <a:off x="5292720" y="3827520"/>
            <a:ext cx="3382920" cy="2530800"/>
            <a:chOff x="5292720" y="3827520"/>
            <a:chExt cx="3382920" cy="2530800"/>
          </a:xfrm>
        </p:grpSpPr>
        <p:pic>
          <p:nvPicPr>
            <p:cNvPr id="65" name="Picture 9" descr="C:\Users\Beatriz\Documents\ANAYA\Termitas\10_termitero.jpg"/>
            <p:cNvPicPr/>
            <p:nvPr/>
          </p:nvPicPr>
          <p:blipFill>
            <a:blip r:embed="rId3"/>
            <a:stretch/>
          </p:blipFill>
          <p:spPr>
            <a:xfrm>
              <a:off x="5292720" y="3827520"/>
              <a:ext cx="338292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11 CuadroTexto"/>
            <p:cNvSpPr/>
            <p:nvPr/>
          </p:nvSpPr>
          <p:spPr>
            <a:xfrm>
              <a:off x="5796720" y="6021000"/>
              <a:ext cx="25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Termiteros african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3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Arial"/>
                <a:ea typeface="Osak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Arial"/>
                <a:ea typeface="Osaka"/>
              </a:rPr>
              <a:t>Ciencias de la Naturaleza 2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Logo anaya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71" name="19 CuadroTexto"/>
          <p:cNvSpPr/>
          <p:nvPr/>
        </p:nvSpPr>
        <p:spPr>
          <a:xfrm>
            <a:off x="971640" y="7650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200"/>
                </a:solidFill>
                <a:latin typeface="Arial"/>
              </a:rPr>
              <a:t>LAS CA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23 Grupo"/>
          <p:cNvGrpSpPr/>
          <p:nvPr/>
        </p:nvGrpSpPr>
        <p:grpSpPr>
          <a:xfrm>
            <a:off x="1225440" y="3059280"/>
            <a:ext cx="3994200" cy="2447640"/>
            <a:chOff x="1225440" y="3059280"/>
            <a:chExt cx="3994200" cy="2447640"/>
          </a:xfrm>
        </p:grpSpPr>
        <p:pic>
          <p:nvPicPr>
            <p:cNvPr id="73" name="Picture 2" descr=""/>
            <p:cNvPicPr/>
            <p:nvPr/>
          </p:nvPicPr>
          <p:blipFill>
            <a:blip r:embed="rId2"/>
            <a:srcRect l="0" t="0" r="73934" b="37001"/>
            <a:stretch/>
          </p:blipFill>
          <p:spPr>
            <a:xfrm>
              <a:off x="1764000" y="3384360"/>
              <a:ext cx="761400" cy="168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" descr=""/>
            <p:cNvPicPr/>
            <p:nvPr/>
          </p:nvPicPr>
          <p:blipFill>
            <a:blip r:embed="rId3"/>
            <a:srcRect l="26066" t="0" r="44144" b="8554"/>
            <a:stretch/>
          </p:blipFill>
          <p:spPr>
            <a:xfrm>
              <a:off x="2700000" y="3059280"/>
              <a:ext cx="870120" cy="24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17 CuadroTexto"/>
            <p:cNvSpPr/>
            <p:nvPr/>
          </p:nvSpPr>
          <p:spPr>
            <a:xfrm>
              <a:off x="3636000" y="3319920"/>
              <a:ext cx="1583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9900"/>
                  </a:solidFill>
                  <a:latin typeface="Arial"/>
                </a:rPr>
                <a:t>Pareja reproducto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18 CuadroTexto"/>
            <p:cNvSpPr/>
            <p:nvPr/>
          </p:nvSpPr>
          <p:spPr>
            <a:xfrm>
              <a:off x="1225440" y="4471920"/>
              <a:ext cx="71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00"/>
                  </a:solidFill>
                  <a:latin typeface="Arial"/>
                </a:rPr>
                <a:t>R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19 CuadroTexto"/>
            <p:cNvSpPr/>
            <p:nvPr/>
          </p:nvSpPr>
          <p:spPr>
            <a:xfrm>
              <a:off x="3564000" y="447192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00"/>
                  </a:solidFill>
                  <a:latin typeface="Arial"/>
                </a:rPr>
                <a:t>Re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24 Grupo"/>
          <p:cNvGrpSpPr/>
          <p:nvPr/>
        </p:nvGrpSpPr>
        <p:grpSpPr>
          <a:xfrm>
            <a:off x="5076720" y="3032280"/>
            <a:ext cx="1150920" cy="2140560"/>
            <a:chOff x="5076720" y="3032280"/>
            <a:chExt cx="1150920" cy="2140560"/>
          </a:xfrm>
        </p:grpSpPr>
        <p:pic>
          <p:nvPicPr>
            <p:cNvPr id="79" name="Picture 2" descr=""/>
            <p:cNvPicPr/>
            <p:nvPr/>
          </p:nvPicPr>
          <p:blipFill>
            <a:blip r:embed="rId4"/>
            <a:srcRect l="78309" t="0" r="-47" b="34969"/>
            <a:stretch/>
          </p:blipFill>
          <p:spPr>
            <a:xfrm>
              <a:off x="5364000" y="3032280"/>
              <a:ext cx="635040" cy="17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20 CuadroTexto"/>
            <p:cNvSpPr/>
            <p:nvPr/>
          </p:nvSpPr>
          <p:spPr>
            <a:xfrm>
              <a:off x="5076720" y="480456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Sold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25 Grupo"/>
          <p:cNvGrpSpPr/>
          <p:nvPr/>
        </p:nvGrpSpPr>
        <p:grpSpPr>
          <a:xfrm>
            <a:off x="6821640" y="3247920"/>
            <a:ext cx="1152360" cy="1924920"/>
            <a:chOff x="6821640" y="3247920"/>
            <a:chExt cx="1152360" cy="1924920"/>
          </a:xfrm>
        </p:grpSpPr>
        <p:pic>
          <p:nvPicPr>
            <p:cNvPr id="82" name="Picture 2" descr=""/>
            <p:cNvPicPr/>
            <p:nvPr/>
          </p:nvPicPr>
          <p:blipFill>
            <a:blip r:embed="rId5"/>
            <a:srcRect l="55371" t="0" r="24148" b="43107"/>
            <a:stretch/>
          </p:blipFill>
          <p:spPr>
            <a:xfrm>
              <a:off x="6948000" y="3247920"/>
              <a:ext cx="598680" cy="152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21 CuadroTexto"/>
            <p:cNvSpPr/>
            <p:nvPr/>
          </p:nvSpPr>
          <p:spPr>
            <a:xfrm>
              <a:off x="6821640" y="480456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70c0"/>
                  </a:solidFill>
                  <a:latin typeface="Arial"/>
                </a:rPr>
                <a:t>Obr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22 Rectángulo"/>
          <p:cNvSpPr/>
          <p:nvPr/>
        </p:nvSpPr>
        <p:spPr>
          <a:xfrm>
            <a:off x="974880" y="556272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último, también se encuentran </a:t>
            </a:r>
            <a:r>
              <a:rPr b="0" lang="en-US" sz="1800" spc="-1" strike="noStrike">
                <a:solidFill>
                  <a:srgbClr val="008200"/>
                </a:solidFill>
                <a:latin typeface="Arial"/>
              </a:rPr>
              <a:t>los reproductores ala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ue darán lugar a nuevas parejas de termitas reproductoras, y las </a:t>
            </a:r>
            <a:r>
              <a:rPr b="0" lang="en-US" sz="1800" spc="-1" strike="noStrike">
                <a:solidFill>
                  <a:srgbClr val="008200"/>
                </a:solidFill>
                <a:latin typeface="Arial"/>
              </a:rPr>
              <a:t>termitas juveniles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  <a:ea typeface="Osaka"/>
              </a:rPr>
              <a:t>Una asociación estatal: las termi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2 Rectángulo"/>
          <p:cNvSpPr/>
          <p:nvPr/>
        </p:nvSpPr>
        <p:spPr>
          <a:xfrm>
            <a:off x="974880" y="1235160"/>
            <a:ext cx="79898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8200"/>
                </a:solidFill>
                <a:latin typeface="Arial"/>
              </a:rPr>
              <a:t>La pareja real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n el rey y la reina que componen la pareja reproductora encargada de crear nuevos individuos para aumentar y mantener el tamaño de la colo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Los soldad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uya función es defender la colo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70c0"/>
                </a:solidFill>
                <a:latin typeface="Arial"/>
              </a:rPr>
              <a:t>Las obrera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struyen los termiteros y los mantienen en buen estado, alimentan a toda la colonia y cuidan los huevos y las lar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0:27:11Z</dcterms:created>
  <dc:creator>Beatriz</dc:creator>
  <dc:description/>
  <dc:language>en-US</dc:language>
  <cp:lastModifiedBy>Anaya</cp:lastModifiedBy>
  <dcterms:modified xsi:type="dcterms:W3CDTF">2011-08-30T11:23:56Z</dcterms:modified>
  <cp:revision>15</cp:revision>
  <dc:subject/>
  <dc:title>Diapositiva 1</dc:title>
</cp:coreProperties>
</file>